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133C-7508-4AD1-9C8F-F13CE90E4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0991-4F86-483F-902B-22E209A6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54C2-12CD-4A9E-8C6E-4F34CEF05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779F-0335-4A76-8028-92D5A3CEC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AA4F-2026-42AD-BDE5-527E63FF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12E2-EE16-4F46-8EC6-E48462F46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D73-53D0-41BB-A2A8-320FBB36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84D4-62AB-45A9-80EA-F0B6836D4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B992-1F4D-4D65-876B-0013D674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28D5-9623-4276-B7F5-98DFD3D8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7B7A-04A9-42AA-BED4-2F419062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ABA1-33B9-4052-AE2B-CB4189F1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33E5-252F-4E92-94AA-B972CCFBA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ATION OF MAGS STAFF ERO REVIEW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HN PI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GAGEMENT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1066680"/>
          <a:ext cx="8610480" cy="1123920"/>
        </p:xfrm>
        <a:graphic>
          <a:graphicData uri="http://schemas.openxmlformats.org/drawingml/2006/table">
            <a:tbl>
              <a:tblPr/>
              <a:tblGrid>
                <a:gridCol w="7432560"/>
                <a:gridCol w="11779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ts of structural 'engagement in learning' changes needed - impact of th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 eng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pport of students wellbeing - since 'ambulance at the bottom' ment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itoring of student engagement - consequences for unengaged/disruptive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"/>
          <p:cNvSpPr/>
          <p:nvPr/>
        </p:nvSpPr>
        <p:spPr>
          <a:xfrm>
            <a:off x="228600" y="2438280"/>
            <a:ext cx="8534520" cy="34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 suggest three things in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inking  - Term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Co-operative Learning -  Term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Feedback - Term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 believe that we can measure some base line data with staff as far as their classroom activites are concerned.This data can be gahtered at a staff meeting but staff need to be able to unpack the questions first. A mixture of closed and open responses. This same tool can be used to measure staff post the 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C0EF-B788-404E-8ACD-D6F24A451AC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FERENTIATION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5238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04920" y="762120"/>
          <a:ext cx="8610480" cy="1752480"/>
        </p:xfrm>
        <a:graphic>
          <a:graphicData uri="http://schemas.openxmlformats.org/drawingml/2006/table">
            <a:tbl>
              <a:tblPr/>
              <a:tblGrid>
                <a:gridCol w="7434000"/>
                <a:gridCol w="117648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tering for individual needs - differenti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ocus on level 1 achievement/link to more suitable courses for lower achie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aching them at their level in ways that they relate 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eting individual needs - this is why we have stream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hat does 'meeting individual needs' really mean? Are we not meeting them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0" y="2590920"/>
            <a:ext cx="8610480" cy="31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How long can ‘one size fit all’ work for all less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ifferentiation can occur through COURSE DESIGN,  CONTENT, PROCESS or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Perhaps the Thinking tools are the way to differentiate? E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inking maps, Think-Its, Thinkers’ Keys are all ways that demand different appro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RO are going to ask us what we are doing for our Gifted and talented as well as our Pasifika stu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0C2-6BE4-44F9-96F1-DC133B3867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TIVES -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28600" y="762120"/>
          <a:ext cx="8610480" cy="1123920"/>
        </p:xfrm>
        <a:graphic>
          <a:graphicData uri="http://schemas.openxmlformats.org/drawingml/2006/table">
            <a:tbl>
              <a:tblPr/>
              <a:tblGrid>
                <a:gridCol w="7434360"/>
                <a:gridCol w="1176120"/>
              </a:tblGrid>
              <a:tr h="29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tiatives aimed at lifting at risk student achie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tiatives have begun well. Praised for their varie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itiatives aimed at lifting at risk student achie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ing required to analyse why new initiatives are taking pl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"/>
          <p:cNvSpPr/>
          <p:nvPr/>
        </p:nvSpPr>
        <p:spPr>
          <a:xfrm>
            <a:off x="228600" y="33526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228600" y="1981080"/>
          <a:ext cx="8610480" cy="1397160"/>
        </p:xfrm>
        <a:graphic>
          <a:graphicData uri="http://schemas.openxmlformats.org/drawingml/2006/table">
            <a:tbl>
              <a:tblPr/>
              <a:tblGrid>
                <a:gridCol w="7477200"/>
                <a:gridCol w="1133280"/>
              </a:tblGrid>
              <a:tr h="2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uka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uka project - good sta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uka Project - keep developing th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ool has promoted initiatives eg Manuka Pro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cking of Manuka students needs a pathway through the entire sch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304920" y="36576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Manuka classes need to be to a certain extent experim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7209-37AC-4FB3-BEA4-54E15FBC593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-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228600" y="685800"/>
          <a:ext cx="8686800" cy="2452680"/>
        </p:xfrm>
        <a:graphic>
          <a:graphicData uri="http://schemas.openxmlformats.org/drawingml/2006/table">
            <a:tbl>
              <a:tblPr/>
              <a:tblGrid>
                <a:gridCol w="7499520"/>
                <a:gridCol w="1187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Asttle to build from what we kn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suring that data collected is used correctly not at the bottom of a briefcase or department back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orporate asttle into year's programme to measure growth/ lear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play/dissemination of studen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data about the retention and attend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c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 gathering and analysis specifically from students, of their experien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" name=""/>
          <p:cNvSpPr/>
          <p:nvPr/>
        </p:nvSpPr>
        <p:spPr>
          <a:xfrm>
            <a:off x="0" y="3352680"/>
            <a:ext cx="876312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Excellent comments particularly when we add how much we have learnt about asttle this ye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ata gathering project with local Intermediate sch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 most important question 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What is the purpose of gathering dat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5459-4549-430F-8131-E526EACAA1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ALUATION OF PROGRAMME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lestone using baseline data, during and at mileston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12952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2438280"/>
          <a:ext cx="8534520" cy="1752840"/>
        </p:xfrm>
        <a:graphic>
          <a:graphicData uri="http://schemas.openxmlformats.org/drawingml/2006/table">
            <a:tbl>
              <a:tblPr/>
              <a:tblGrid>
                <a:gridCol w="7367760"/>
                <a:gridCol w="1166760"/>
              </a:tblGrid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y how well or how poorly the initiatives are work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nitoring academic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 need a methodology to measure the success of the programm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tions systems in place but not if evaluation is done of effectiven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veral interventions but no definitive measuring of these or a timeframe for measuring th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"/>
          <p:cNvSpPr/>
          <p:nvPr/>
        </p:nvSpPr>
        <p:spPr>
          <a:xfrm>
            <a:off x="0" y="4267080"/>
            <a:ext cx="8458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Some links to DATA gath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If we make changes we need to measure them and know how to do that before we star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2E6B-4F46-4224-9EE9-2CDAD62F9D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EDBACK to staff goal this year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23623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52280" y="990720"/>
          <a:ext cx="8763120" cy="1371600"/>
        </p:xfrm>
        <a:graphic>
          <a:graphicData uri="http://schemas.openxmlformats.org/drawingml/2006/table">
            <a:tbl>
              <a:tblPr/>
              <a:tblGrid>
                <a:gridCol w="7715520"/>
                <a:gridCol w="104760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volvement of students in the feedback/assess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3-way conferenc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explicit feedback of analys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much feedback to departments on analysis of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>
            <a:off x="228600" y="3124080"/>
            <a:ext cx="868680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se are all positives but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Do individual teachers need some techniq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inks to data gathering techniques in an NCEA environment and also …  links to student voice if you consider a range of different types of data: Feedback Surveys, Questionnaires, Qualitative, Quantitative, Ach. Std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B382-8887-468C-9BF3-5F4110A1CD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UNITY INVOLVEMENT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28600" y="762120"/>
          <a:ext cx="8686800" cy="3720960"/>
        </p:xfrm>
        <a:graphic>
          <a:graphicData uri="http://schemas.openxmlformats.org/drawingml/2006/table">
            <a:tbl>
              <a:tblPr/>
              <a:tblGrid>
                <a:gridCol w="7499520"/>
                <a:gridCol w="11872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munity lin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ult with community m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gagement of parents with their students’ education, monitoring of homework diaries 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ing contact/relationships with Pacific famil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ra workload placed on staff to initiate/respond to parental commun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ent invol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ll don't see the parents that we want to se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s to translators for communication assistance with pa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GS parents has much untapped potenti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ent involvement in sport/cultural activ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llage mentoring - What is this exactly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llage mentoring Initia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mention of parental involvement/inclusion in pastoral care - mention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s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on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"/>
          <p:cNvSpPr/>
          <p:nvPr/>
        </p:nvSpPr>
        <p:spPr>
          <a:xfrm>
            <a:off x="380880" y="4800600"/>
            <a:ext cx="7772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is is a big issue when we consider the number of com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MAGS Parents li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35AC-171A-4894-AA3B-206299E15B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IFIKA 1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52280" y="685800"/>
          <a:ext cx="8763120" cy="3112920"/>
        </p:xfrm>
        <a:graphic>
          <a:graphicData uri="http://schemas.openxmlformats.org/drawingml/2006/table">
            <a:tbl>
              <a:tblPr/>
              <a:tblGrid>
                <a:gridCol w="7545600"/>
                <a:gridCol w="1217520"/>
              </a:tblGrid>
              <a:tr h="35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ing teachers' awareness of Pacifica teaching and learning sty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cifica student voice/ surveys 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rove the numbers coming to Polynesian parent meet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ck of consultation contact with pacific pa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ck of feedback from Pacific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ck of information on Pacific students within the school available to staff and to track performan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positive male Pacifica role mod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cific Liaison needs to be more proactive in discussing with teachers regarding Pacific students' achie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achers lack of background knowledge of Pacific students culture and their Intermediate school achiev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CFCB-5266-4CA2-B13E-84600651ED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IFIKA 2 mileston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8600" y="641520"/>
          <a:ext cx="8610480" cy="2730240"/>
        </p:xfrm>
        <a:graphic>
          <a:graphicData uri="http://schemas.openxmlformats.org/drawingml/2006/table">
            <a:tbl>
              <a:tblPr/>
              <a:tblGrid>
                <a:gridCol w="7434360"/>
                <a:gridCol w="11761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roduction of Samoan language as a subj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 X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2 and 3 Pacifica students achieving well above national aver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 X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Pacific students attending HW Cen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umber of Pacific students taking part in cultural and sporting activit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cific Liaison Officer/ pastoral 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 X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cifica Literacy program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lot of Pacific parents not involved in students' lear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ck of data analysis on attendance/retention of Pacific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ck of teaching knowledge/training on Pacific learning Sty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rge number of Pacific students attending the centre due to the fact they are underachiev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1D05-FE3E-44C2-B56B-3666AB8205B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SIFIKA 3 -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04920" y="838080"/>
          <a:ext cx="8686800" cy="1600200"/>
        </p:xfrm>
        <a:graphic>
          <a:graphicData uri="http://schemas.openxmlformats.org/drawingml/2006/table">
            <a:tbl>
              <a:tblPr/>
              <a:tblGrid>
                <a:gridCol w="7499160"/>
                <a:gridCol w="1187640"/>
              </a:tblGrid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links with Pacific pa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cific students coming to school to essentially play S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moan classes? Useful? Achieving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ill not catering sufficiently for the needs of Maori/Pacifica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e don't know anything about our Pacific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"/>
          <p:cNvSpPr/>
          <p:nvPr/>
        </p:nvSpPr>
        <p:spPr>
          <a:xfrm>
            <a:off x="304920" y="38862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e already have links to Pasifika parents and Pasifika teachers. We need to build on the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041-60CB-469B-881C-C2FAA455A5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LEST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am suggesting that we set up targets and goals over a three-year period that do two thin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Align what we do with our strategic plan (and the 5 year teacher development pl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Align what we do with the timeline of the next ERO re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D3D8-DEBF-4205-B24B-81EE63EB4D1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8483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T 1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280" y="685800"/>
          <a:ext cx="8763120" cy="3594240"/>
        </p:xfrm>
        <a:graphic>
          <a:graphicData uri="http://schemas.openxmlformats.org/drawingml/2006/table">
            <a:tbl>
              <a:tblPr/>
              <a:tblGrid>
                <a:gridCol w="5986440"/>
                <a:gridCol w="27766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ata projectors fixed to ceiling in all ro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w to assess the use of computers in terms of learning outcomes more access to various websites for teachers eg Youtube and Video cli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mplementation of 'Enabling the 21st century learn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access to comput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admin help for my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effort to engage different groups of pa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of teaching (E-learning and myclasses) provide opportunities to report b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pgrading of facilities and resources to enable more teachers to be able to use a range of teaching strateg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opportunities to up skill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e ICTs to avoid excessive use of pap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2D23-439F-42C0-A126-EED1061A1FE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T 2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762120"/>
          <a:ext cx="8686800" cy="2438280"/>
        </p:xfrm>
        <a:graphic>
          <a:graphicData uri="http://schemas.openxmlformats.org/drawingml/2006/table">
            <a:tbl>
              <a:tblPr/>
              <a:tblGrid>
                <a:gridCol w="7499160"/>
                <a:gridCol w="11876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tter coverage of ICT skills in Junior cour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tribution of computers so that they can be used effective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s to more computers per student eg double the number of computers in classroo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forming each department of who does what for I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eep developing myclasses - use counters on all pag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classes is good but not all students can access it due to blocking because they are si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line resources - help for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457200" y="518148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ese link to a wide range of the other head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Already an ICT strategic group has been sugg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75E8-E959-4373-8BDF-90E0A320DA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CT 3 -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52280" y="609480"/>
          <a:ext cx="8763120" cy="3732480"/>
        </p:xfrm>
        <a:graphic>
          <a:graphicData uri="http://schemas.openxmlformats.org/drawingml/2006/table">
            <a:tbl>
              <a:tblPr/>
              <a:tblGrid>
                <a:gridCol w="7566120"/>
                <a:gridCol w="119700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not know how effective use of ICT 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suring pod use is optimi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classes not really helping some students - extra admin for teach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all students have internet access at ho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ail in terms of asking questions of students, teachers, emailing assign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-mail needs to be developed further. Lists given to staff Kamar for thi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ke sure MOE action plan is implemen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yclasses - keep helping teachers to devel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line resources - help for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ool website and parent for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uter room between each department - not whole school trying to share 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s want to use email/internet as first point for research/communication/information - generation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3CAD-09F1-44F7-8B21-9971D17666E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SIZES -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44792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52280" y="914400"/>
          <a:ext cx="8686800" cy="1905120"/>
        </p:xfrm>
        <a:graphic>
          <a:graphicData uri="http://schemas.openxmlformats.org/drawingml/2006/table">
            <a:tbl>
              <a:tblPr/>
              <a:tblGrid>
                <a:gridCol w="7499520"/>
                <a:gridCol w="1187280"/>
              </a:tblGrid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 siz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 siz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lass siz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nuka project is stymied by over-large class siz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maller class siz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in classes with roll grow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"/>
          <p:cNvSpPr/>
          <p:nvPr/>
        </p:nvSpPr>
        <p:spPr>
          <a:xfrm>
            <a:off x="304920" y="3657600"/>
            <a:ext cx="84582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learly a concern for some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at does research s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ale’s paper interesting but important to keep in mind the other pressures that we place on staff who teach five sets of 30 in a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2938-4830-4436-AEFD-7D5306BA5FD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CENTRE/GUIDANCE - milest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13372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8600" y="1219320"/>
          <a:ext cx="8610480" cy="2209680"/>
        </p:xfrm>
        <a:graphic>
          <a:graphicData uri="http://schemas.openxmlformats.org/drawingml/2006/table">
            <a:tbl>
              <a:tblPr/>
              <a:tblGrid>
                <a:gridCol w="7432560"/>
                <a:gridCol w="1177920"/>
              </a:tblGrid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uidance network extensive - external and intern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Guidanc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seling services - students and sta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unseling services - students: sta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 cen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sure impact of pastoral care and how to measure 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s Centre as a central location for all pastoral bod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"/>
          <p:cNvSpPr/>
          <p:nvPr/>
        </p:nvSpPr>
        <p:spPr>
          <a:xfrm>
            <a:off x="304920" y="5334120"/>
            <a:ext cx="8458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is was impressive 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How do we build from 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8BBB-52D7-4258-BB93-DA046BB292A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ING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3520" y="21337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28600" y="685800"/>
          <a:ext cx="8610480" cy="2362320"/>
        </p:xfrm>
        <a:graphic>
          <a:graphicData uri="http://schemas.openxmlformats.org/drawingml/2006/table">
            <a:tbl>
              <a:tblPr/>
              <a:tblGrid>
                <a:gridCol w="7434360"/>
                <a:gridCol w="117612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ood practice te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of te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of teaching - teachers to continue to grow through PD and support from Snr Mg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of teaching - teachers to continue to grow through PD with support from Senior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Quality teach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s benefit from effective teaching in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mo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"/>
          <p:cNvSpPr/>
          <p:nvPr/>
        </p:nvSpPr>
        <p:spPr>
          <a:xfrm>
            <a:off x="228600" y="4572000"/>
            <a:ext cx="86104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an coaching and mentoring be a model to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an we observe each other mo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an we give each other more feedbac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468E-1FB6-4297-BBA8-000CEE9A74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04920" y="198108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80880" y="762120"/>
          <a:ext cx="8305920" cy="2457360"/>
        </p:xfrm>
        <a:graphic>
          <a:graphicData uri="http://schemas.openxmlformats.org/drawingml/2006/table">
            <a:tbl>
              <a:tblPr/>
              <a:tblGrid>
                <a:gridCol w="7170840"/>
                <a:gridCol w="1135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rategies for motivating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PD for staff and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tivation of students - up to date help not just detention-based punish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rease motivation as students control pace of lear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surement of student engagement with learning - intrinsic motiv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re teacher PD need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ed P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fessional develop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ool facilitation of learning needs to keep u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8035920" y="6246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920" y="5486400"/>
            <a:ext cx="83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inks to a whole raft of the other hea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D027-7826-436F-AD0A-EDE6676AF6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848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ERNATIVE PATH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371600"/>
            <a:ext cx="8534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380880" y="457200"/>
          <a:ext cx="8534520" cy="2981160"/>
        </p:xfrm>
        <a:graphic>
          <a:graphicData uri="http://schemas.openxmlformats.org/drawingml/2006/table">
            <a:tbl>
              <a:tblPr/>
              <a:tblGrid>
                <a:gridCol w="7016760"/>
                <a:gridCol w="15177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 Successmaker and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teway systems for students wanting to leave in  a positive light not a as a dropo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ess the validity and success of Successmaker and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teway has been listed as support for students that are underachieving but is supposed to be an alternative pathway for students exploring the world of 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teway programme for students ready to leave sch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ccessmaker and Gateway need to be measured for their efficacy. If they work, extend them. If results are minimal put the energy elsewhe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O is questioning the value of Successmaker and Gateway in the sch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ateway is being used for underachieving students when it is not supposed to be the case and is no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3FE7-C8BF-4518-997C-D82FEFD56F2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focus on goals that will address both of the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 IDEAS FROM LAST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HIEVEMENT - Milestone year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DERACHIEVEMENT - Milestone year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RGET ID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UDENT VOICE Milestone sub-group of SMT gather info FEEDBACK GO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GS WAY Milestone - link to new curricul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HAVIOUR - Milestone - other initiatives will help eg Resilienc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IPLINE - Milestone - other initiatives will hel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EMENT Milestone 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initiatives will help:  THINK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-OPERATIVE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FFERENTIATION Milestone - other initiatives will help: THINK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-OPERATIVE LEAR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- Mileston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GULAR PART OF WHAT WE 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IVES - Milest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VALUATION OF PROGRAMMES Milest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TY INVOLVEMENT Milestone FEEDBA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IFIKA Milestone  ALL THREE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T - Milestone  ALL THREE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 SIZES - Milest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ACHING - Milestone ALL THREE GO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ERNATIVE PATHWAYS - Milestone  EVAL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3EC-CDB9-4D53-96C9-CA731900EAF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28600" y="762120"/>
          <a:ext cx="8610480" cy="2533680"/>
        </p:xfrm>
        <a:graphic>
          <a:graphicData uri="http://schemas.openxmlformats.org/drawingml/2006/table">
            <a:tbl>
              <a:tblPr/>
              <a:tblGrid>
                <a:gridCol w="7456320"/>
                <a:gridCol w="1154160"/>
              </a:tblGrid>
              <a:tr h="30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el 1 achievement well below national average x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vel 1 results below 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achieving the same as other school grou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achieving at level 1 especial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ove national average for L2 and L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reater use of external achievement to monitor resul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dents at level 2 and 3 are achieving well above the national avera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ort reads well but are we really helping </a:t>
                      </a:r>
                      <a:r>
                        <a:rPr b="0" lang="en-US" sz="1200" spc="-1" strike="noStrike" u="sng">
                          <a:solidFill>
                            <a:srgbClr val="000000"/>
                          </a:solidFill>
                          <a:uFillTx/>
                          <a:latin typeface="Verdana"/>
                        </a:rPr>
                        <a:t>underachieving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student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HIEVEMENT -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6095880"/>
            <a:ext cx="8686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3505320"/>
            <a:ext cx="8991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Direct link to underachievement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e target should include those students who are fa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969F-31DE-4991-B33C-21659745A0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1760" y="15228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ACHIEVEMENT -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8108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219320"/>
          <a:ext cx="8458200" cy="1447560"/>
        </p:xfrm>
        <a:graphic>
          <a:graphicData uri="http://schemas.openxmlformats.org/drawingml/2006/table">
            <a:tbl>
              <a:tblPr/>
              <a:tblGrid>
                <a:gridCol w="7302240"/>
                <a:gridCol w="1155960"/>
              </a:tblGrid>
              <a:tr h="60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suring that underachieving students do have adequate interventions in place to prevent falling through the crac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f we don't succeed in lifting underachievers, all the initiatives of 2006 will end up in areas of improv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derachieving by some groups compared to other groups in the scho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152280" y="2819520"/>
            <a:ext cx="86108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This was based on 2006 data 2007 data needs to be factored (another reason to set targets in the New Ye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Can we look at our successful students and see what they do as models for those who are underachieving? ie a RESILIENCE model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er tutoring Y13 of Y1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Academic Institute Y13 meet with Y10 and Y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E05D-DFFA-4654-8F87-152DB4CEEC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ENT VOICE Miles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21337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380880" y="609480"/>
          <a:ext cx="8382240" cy="2067120"/>
        </p:xfrm>
        <a:graphic>
          <a:graphicData uri="http://schemas.openxmlformats.org/drawingml/2006/table">
            <a:tbl>
              <a:tblPr/>
              <a:tblGrid>
                <a:gridCol w="6139080"/>
                <a:gridCol w="2243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chool links to student vo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ncourage more positive opinions from students and staff towards MA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eelings about the school from stud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ening to the students and their needs at all levels not just Y13 - maximise school council effectivel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 voice for students' feeling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portunities for students to contribute ideas about aspirations and challenges are few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304920" y="2819520"/>
            <a:ext cx="853416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Where can students have an opportunity to have their s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Student council, student newspaper, myclasses, environment group, feedback to teachers, prefects, organising events (Fluoro Days), Music, Performing Arts, Fo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How can we put structures in place? Student Council? ‘The Roar’? myclasses? Special Grou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E5D8-20F8-4654-B946-14E9835987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1760" y="-360"/>
            <a:ext cx="7848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S WAY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676520"/>
            <a:ext cx="815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228600" y="685800"/>
          <a:ext cx="8686800" cy="1676520"/>
        </p:xfrm>
        <a:graphic>
          <a:graphicData uri="http://schemas.openxmlformats.org/drawingml/2006/table">
            <a:tbl>
              <a:tblPr/>
              <a:tblGrid>
                <a:gridCol w="7412040"/>
                <a:gridCol w="1274760"/>
              </a:tblGrid>
              <a:tr h="35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GS Way is +ve and reinforced through different aven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inforcing MAGS 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aching of values - buy-in by staff/students/pa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inforcing MAGS 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utting up posters does not make it real. Build relationships. Who is not in the poster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152280" y="2438280"/>
            <a:ext cx="9144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Perhaps the MAGS Way is a vehicle for increased student voice? Eg Respect the Environment could be a vehicle for students to have their voice heard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Each MAGS Way principle can be given to students to deve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1080-FEDA-4D2B-8AA9-13A186A07E1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696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HAVIOUR - milest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28600" y="685800"/>
          <a:ext cx="8763120" cy="2819520"/>
        </p:xfrm>
        <a:graphic>
          <a:graphicData uri="http://schemas.openxmlformats.org/drawingml/2006/table">
            <a:tbl>
              <a:tblPr/>
              <a:tblGrid>
                <a:gridCol w="7564320"/>
                <a:gridCol w="11988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aviour management system needs to be based on current research and is not evaluated for effectivene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aviour expectations/statistics - no info - stand-downs et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aviour managem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ffectiveness of systems to change behavou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nsion between control and respe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aviour management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aviour management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havour management sys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304920" y="3657600"/>
            <a:ext cx="8610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Good example of differing perceptions by staff about behaviour -  probably needs to be unpacked further - paticularly in the light of the next slide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If we benchmark the negative comments  and try the positive strategies, these sorts of feedback can be gathered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E0D0-FD7B-4D1F-B1CA-2A7C820741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CIPLINE - Milest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28600" y="914400"/>
          <a:ext cx="8686800" cy="1295280"/>
        </p:xfrm>
        <a:graphic>
          <a:graphicData uri="http://schemas.openxmlformats.org/drawingml/2006/table">
            <a:tbl>
              <a:tblPr/>
              <a:tblGrid>
                <a:gridCol w="7499520"/>
                <a:gridCol w="1187280"/>
              </a:tblGrid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native discipline methods to be implemen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port says discipline is good but feeling is that it is not an effective system - long way to 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flict between traditional disciplinarian model and a culture of respect that the MAGS Way is meant to be reinforc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" name=""/>
          <p:cNvSpPr/>
          <p:nvPr/>
        </p:nvSpPr>
        <p:spPr>
          <a:xfrm>
            <a:off x="380880" y="40384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This links to BEHAVIOUR to the MAGS WAY, to student engagement and to motiv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CDA-F3B8-4A96-BBEE-5C846B4BBF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4T08:45:21Z</dcterms:created>
  <dc:creator>John Pipe</dc:creator>
  <dc:description/>
  <dc:language>en-US</dc:language>
  <cp:lastModifiedBy>John Pipe</cp:lastModifiedBy>
  <cp:lastPrinted>2007-11-05T01:45:17Z</cp:lastPrinted>
  <dcterms:modified xsi:type="dcterms:W3CDTF">2010-06-27T07:27:24Z</dcterms:modified>
  <cp:revision>22</cp:revision>
  <dc:subject/>
  <dc:title>COLLATION OF ERO REVIEW COMMENTS</dc:title>
</cp:coreProperties>
</file>